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E18-F4CF-49EE-8844-F04A3FF9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A6E-DA52-485D-935D-D526430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AB7-8764-4169-A112-E46C563B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FA3-546B-435B-9D58-56A5781A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40A4-68C6-4C1A-8BE7-BC5B1E68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364D-B104-40EB-BAB3-9C101F1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894A-95B7-4626-8699-F4E9BB21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3180-A937-40C4-A292-BB050634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2BB-E9FD-463F-BA66-7C5174E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F34-8020-4F98-AF66-0CCF4659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9D8-4350-43D4-8D62-79FA72A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9B3-1381-4C80-B615-592618D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B1C-DBA9-463E-93D3-6BDAE55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B672-E62E-4663-8580-0560BF1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F74-3989-45B9-A1CA-EB88603E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7F08-7F1A-4B73-A737-5DE9615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A6B-A151-495A-AA18-C56A854F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929-F03A-4F1A-B4D6-FC5E914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CB6-CABF-4DE5-ADE9-6993EEF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B50-0D9B-43A6-A496-506DDB8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E25-84B7-4A1D-A0D2-E7684C5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B42-2D1E-4CCB-A865-5FCD6DF6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DE8-C244-46E3-B9AB-D1673BA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EC4-9157-48AA-B89F-36E2B0B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DFFD-7FDA-48E7-AC16-90511F902166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FEC-D0B3-4101-A843-D1415AB95190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badi MT Condensed Light"/>
              </a:rPr>
              <a:t>Making &amp; Forming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badi MT Condensed Light"/>
              </a:rPr>
              <a:t>Decision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Jessica Cho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presentativeness Heurist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situations with our mental representation of that categ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usually spontane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ds to stereotyp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7280" y="533160"/>
            <a:ext cx="19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38876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Verdana"/>
              </a:rPr>
              <a:t>Person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Verdana"/>
              </a:rPr>
              <a:t>Laid-bac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Verdana"/>
              </a:rPr>
              <a:t>Likes the bea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Verdana"/>
              </a:rPr>
              <a:t>Enjoys having barbe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74320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67ff"/>
                </a:solidFill>
                <a:latin typeface="Arial"/>
              </a:rPr>
              <a:t>Person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67ff"/>
                </a:solidFill>
                <a:latin typeface="Arial"/>
              </a:rPr>
              <a:t>Loves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67ff"/>
                </a:solidFill>
                <a:latin typeface="Arial"/>
              </a:rPr>
              <a:t>Rides ho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67ff"/>
                </a:solidFill>
                <a:latin typeface="Arial"/>
              </a:rPr>
              <a:t>Daddy’s little gir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4392720" cy="510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79396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11430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o is person A? B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ing a judgment based on what you remember (on what’s “available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o you think there are more words that start with a ‘K’ or more words that have ‘k’ as the third lette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angaroo vs. sak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3:46:26Z</dcterms:created>
  <dc:creator>Jessica Choi</dc:creator>
  <dc:description/>
  <dc:language>en-US</dc:language>
  <cp:lastModifiedBy>Jessica Choi</cp:lastModifiedBy>
  <dcterms:modified xsi:type="dcterms:W3CDTF">2009-04-30T02:42:53Z</dcterms:modified>
  <cp:revision>8</cp:revision>
  <dc:subject/>
  <dc:title>Making Decisions  and  Forming Decisions</dc:title>
</cp:coreProperties>
</file>